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C4A-2B1B-435E-8073-7A5018A3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8BD-AC34-47E3-8812-7D0749D0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4A6-0486-4390-A4AD-A43FC367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EF1-8BDC-4EF3-8AE9-F285C2AC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C179-8A5E-4EBA-8308-E5BE5129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78B6-2230-4ABC-8B1C-C17210EA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BEA1-9D68-4B66-9DD8-73C85B13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CD2C-F37F-4911-B6D8-922564F7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E0D7-64CF-4A3A-9512-26D688A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ABDB-B8B5-4935-AA20-77DF81C1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8A73-2E2D-49FD-A387-8DF4E18B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961-8C58-4A44-BF51-F46DD7E2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2B42-0BCB-412C-8DD8-550B3513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6AF7-977B-4296-9574-9380EAC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771D-942A-4DFD-93D8-7A4071B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1A9F-B9D3-4CC7-A6C7-D7CE2966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35C3-41F4-42B7-9B44-A6609527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B8A-63AC-49F5-80C9-363ABC5E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AF5-8FCA-4D0C-931B-B5EEAAF7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B55-1CAE-412B-8851-88D3B705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F4B-89DA-4E49-8070-2B4B0251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817-4DF3-4944-BF2A-EBA369B1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760-390E-46DE-B1ED-254F2D0B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17C-B929-479A-9338-14F94FF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9B39-4DEB-4109-AF80-A898221EF7C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87E3-E9F1-4EE6-BFD3-6CDC67FB070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nitedstreaming.com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discoveryeducation.com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nited Streaming Vide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rianna Angov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en Snyd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sourc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www.unitedstreaming.com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0b854"/>
                </a:solidFill>
                <a:uFillTx/>
                <a:latin typeface="Arial"/>
                <a:hlinkClick r:id="rId4"/>
              </a:rPr>
              <a:t>www.discoveryeducation.com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artsell, T., &amp; Yuen, S. (2006). Video streaming in online learning.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AACE Journal, 14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1), 31-4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at Is I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Discovery Education’s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is a digital video-based learning resource from Discovery Education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the largest and most current K-12 digital video/video segment library available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a standards-based video-on-demand application, which has shown to increase student achievemen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ducators have access to 50,000 content-specific segments from 5,000 full-length educational videos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More than half the schools across the United States us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unitedstream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eachers can access high quality producers--including Discovery School, United Learning, Scholastic, Standards Deviants, and Weston Woo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ideos are organized by subject and grade leve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re is a curriculum standards search that allows teachers to find videos that correspond to each standard of a particular stat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ate-of-the-Art Professional Development sessions for online and onsite support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ncludes a teacher center to manage classroom instructi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eatures (continue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eachers can save videos, quizzes, assignments, etc. in their own personal “My Content” area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eacher’s guides and blackline masters/worksheets accompany video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ideos are available in Spanish and closed caption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cludes extensive clip art gallery and encyclopedia articl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eacher Cent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assignment builder allows teachers to assign online activities and web-based projects that are stored on the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serve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calendar allows teachers to connect the past to the present with video content of events that happened on a particular day, week, and/or mont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Discovery Atlas Interactive Map allows students and teachers to search for videos pertaining to countries they are study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 Discovery Educator Network allows for collaboration with fellow Discovery Educato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eacher Center (continue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Lesson Plan Library has lesson plans integrating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videos into various subject areas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Quiz Builder allows teachers to create their own quizzes or access pre-made quizz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e Writing Prompt Builder allows teachers to create their own writing prompts or access pre-made writing promp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tegrating United Stream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xcellent resource for grades K-12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ted Streaming provides 50 ways to integrat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nitedstreaming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o your curriculum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Integration ideas can be implemented with all aspects of your daily routine and curriculum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ome examples: journaling, reading support, current events, graphic organizers, morning work, hands-on math, etc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os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Hardware is neutral, no special software or hardware need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Reaches visual learn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ideo clips are segmented into 3-4 minute portions.  Each piece focuses on an important component of the topic being studied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aries instructional strateg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Practical and easy to use for all subjects and grade levels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Extensive library of videos, encyclopedia articles, and clip ar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Fulfills mandates set by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No Child Left Behin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ew titles added regularly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st: Schools must purchase a subscription in order for teachers to us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. Families of home schooled students must purchase a subscription as well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Online assignments are limited to what is available on the 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unitedstreaming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serve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mputer and internet access are a necessity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raining is suggested for new use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21:47:59Z</dcterms:created>
  <dc:creator>jensny</dc:creator>
  <dc:description/>
  <dc:language>en-US</dc:language>
  <cp:lastModifiedBy>jensny</cp:lastModifiedBy>
  <dcterms:modified xsi:type="dcterms:W3CDTF">2008-03-30T21:34:50Z</dcterms:modified>
  <cp:revision>8</cp:revision>
  <dc:subject/>
  <dc:title>United Streaming Vide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